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6.png" ContentType="image/png"/>
  <Override PartName="/ppt/media/image23.jpeg" ContentType="image/jpeg"/>
  <Override PartName="/ppt/media/image2.jpeg" ContentType="image/jpeg"/>
  <Override PartName="/ppt/media/image7.png" ContentType="image/png"/>
  <Override PartName="/ppt/media/image22.jpeg" ContentType="image/jpeg"/>
  <Override PartName="/ppt/media/image3.png" ContentType="image/png"/>
  <Override PartName="/ppt/media/whoosh.wav" ContentType="audio/x-wav"/>
  <Override PartName="/ppt/media/image8.wmf" ContentType="image/x-wmf"/>
  <Override PartName="/ppt/media/image13.wmf" ContentType="image/x-wmf"/>
  <Override PartName="/ppt/media/image27.jpeg" ContentType="image/jpeg"/>
  <Override PartName="/ppt/media/image5.png" ContentType="image/png"/>
  <Override PartName="/ppt/media/applause.wav" ContentType="audio/x-wav"/>
  <Override PartName="/ppt/media/image9.wmf" ContentType="image/x-wmf"/>
  <Override PartName="/ppt/media/image4.png" ContentType="image/png"/>
  <Override PartName="/ppt/media/image12.wmf" ContentType="image/x-wmf"/>
  <Override PartName="/ppt/media/image1.png" ContentType="image/png"/>
  <Override PartName="/ppt/media/image10.wmf" ContentType="image/x-wmf"/>
  <Override PartName="/ppt/media/image14.gif" ContentType="image/gif"/>
  <Override PartName="/ppt/media/image17.png" ContentType="image/png"/>
  <Override PartName="/ppt/media/image11.wmf" ContentType="image/x-wmf"/>
  <Override PartName="/ppt/media/image15.gif" ContentType="image/gif"/>
  <Override PartName="/ppt/media/type.wav" ContentType="audio/x-wav"/>
  <Override PartName="/ppt/media/image18.png" ContentType="image/png"/>
  <Override PartName="/ppt/media/image16.png" ContentType="image/pn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573AA-FC99-4063-8A51-CB6EEB35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8919D-71EF-4A6A-A1D6-0F3122CC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23B5D-FBA7-465B-9C99-24C1B96D5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7B3D8-9649-40AA-8D4A-45EF4B1A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C832-8240-4982-867A-9D808918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EB4E-7BB7-4BAF-8E14-B8C0046F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061C-DBFF-4A3D-9745-411A8260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1D36-44F2-401C-9456-BC49AE79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2A26-F3C8-4799-A933-37F02E14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15D2-6D5D-40A4-91E0-5CC16641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E480-7686-4ABB-8E8E-60D42774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C2C8B-6469-4ACB-98C1-1A2D76A9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F588-2E0C-46A5-8D95-0870A039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348F-E962-4590-98B6-C644BA7A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EFB8-A945-4DB3-8011-CC227B18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814F-74BD-4FEE-A0AE-858B484A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7073-CD7E-488D-93AC-2FD6C565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B8703-1778-4828-8745-D2C498F0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21E18-A21B-411C-9A30-5C226FA3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CA0BD-FA60-4C68-A9C3-F2C0733F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DA9A2-EA3D-418F-B0AA-DDAB319C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5205E-E4EF-4AC9-BAD9-E30A51E7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7A09D-F3F4-44EF-B199-D0DAF65F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E9A83-544B-47F2-9641-774A5CAA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DDB7-51D4-4E98-AD26-FA8BFD20A25D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6E67-EE79-4C57-AF02-2A41C50963AF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applause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I:/Bran_RaduJ/filme/Louis%20Armstrong-What%20a%20Wonderfull%20World.avi" TargetMode="Externa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4232160"/>
            <a:ext cx="3353040" cy="26258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3360" y="182880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PROIECTAREA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FTULUI EDUCA</a:t>
            </a:r>
            <a:r>
              <a:rPr b="1" lang="ro-RO" sz="42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ONAL – CONSIDERA</a:t>
            </a:r>
            <a:r>
              <a:rPr b="1" lang="ro-RO" sz="42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o-RO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GENERA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520" y="53341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00"/>
                </a:solidFill>
                <a:latin typeface="Arial"/>
              </a:rPr>
              <a:t>Proiectul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00"/>
                </a:solidFill>
                <a:latin typeface="Arial"/>
              </a:rPr>
              <a:t>Profesorul – creator de soft educaţiona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00"/>
                </a:solidFill>
                <a:latin typeface="Arial"/>
              </a:rPr>
              <a:t>POSDRU/57/1.3/S/34533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09" name="Picture 5" descr="C:\Documents and Settings\ionutm\Desktop\Semnatura compusa v3.JPG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4. </a:t>
            </a:r>
            <a:r>
              <a:rPr b="1" lang="pt-BR" sz="3900" spc="-1" strike="noStrike">
                <a:solidFill>
                  <a:srgbClr val="00cc00"/>
                </a:solidFill>
                <a:latin typeface="Bookman Old Style"/>
              </a:rPr>
              <a:t>IMAGINEA DE SUPRAFA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Ţ</a:t>
            </a:r>
            <a:r>
              <a:rPr b="1" lang="pt-BR" sz="3900" spc="-1" strike="noStrike">
                <a:solidFill>
                  <a:srgbClr val="00cc00"/>
                </a:solidFill>
                <a:latin typeface="Bookman Old Style"/>
              </a:rPr>
              <a:t>Ă/ 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 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	</a:t>
            </a:r>
            <a:r>
              <a:rPr b="1" lang="pt-BR" sz="3900" spc="-1" strike="noStrike">
                <a:solidFill>
                  <a:srgbClr val="00cc00"/>
                </a:solidFill>
                <a:latin typeface="Bookman Old Style"/>
              </a:rPr>
              <a:t>INTERFA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Ţ</a:t>
            </a:r>
            <a:r>
              <a:rPr b="1" lang="pt-BR" sz="3900" spc="-1" strike="noStrike">
                <a:solidFill>
                  <a:srgbClr val="00cc00"/>
                </a:solidFill>
                <a:latin typeface="Bookman Old Style"/>
              </a:rPr>
              <a:t>A VIZIBILĂ:</a:t>
            </a:r>
            <a:endParaRPr b="0" lang="en-US" sz="3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Fiţi constienţi de importanţa imaginii de pe ecran: este “</a:t>
            </a:r>
            <a:r>
              <a:rPr b="0" lang="ro-RO" sz="3200" spc="-1" strike="noStrike" u="sng">
                <a:solidFill>
                  <a:srgbClr val="333300"/>
                </a:solidFill>
                <a:uFillTx/>
                <a:latin typeface="Arial"/>
                <a:hlinkClick r:id="rId1" action="ppaction://hlinksldjump"/>
              </a:rPr>
              <a:t>look</a:t>
            </a: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-ul” softului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333300"/>
                </a:solidFill>
                <a:uFillTx/>
                <a:latin typeface="Arial"/>
                <a:hlinkClick r:id="rId2" action="ppaction://hlinksldjump"/>
              </a:rPr>
              <a:t>Nu îngrămădiţi </a:t>
            </a: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ecranul: el trebuie să fie un suport al învăţării, </a:t>
            </a: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      nu un distractor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6-Point Star 3"/>
          <p:cNvSpPr/>
          <p:nvPr/>
        </p:nvSpPr>
        <p:spPr>
          <a:xfrm rot="871800">
            <a:off x="5032080" y="3554280"/>
            <a:ext cx="4014720" cy="3262320"/>
          </a:xfrm>
          <a:prstGeom prst="pie">
            <a:avLst/>
          </a:prstGeom>
          <a:solidFill>
            <a:srgbClr val="cccc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Coerenţă, echilibru, predictibilitate, simplitate, funcţionalitat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7" name="Picture 195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0"/>
            <a:ext cx="9144000" cy="6767640"/>
            <a:chOff x="0" y="0"/>
            <a:chExt cx="9144000" cy="6767640"/>
          </a:xfrm>
        </p:grpSpPr>
        <p:pic>
          <p:nvPicPr>
            <p:cNvPr id="149" name="Picture 6" descr="C:\Program Files\Common Files\Microsoft Shared\Clipart\cagcat50\SO01862_.wm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76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Rectangle 2"/>
            <p:cNvSpPr/>
            <p:nvPr/>
          </p:nvSpPr>
          <p:spPr>
            <a:xfrm>
              <a:off x="1523880" y="380880"/>
              <a:ext cx="7010640" cy="7621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3300"/>
                  </a:solidFill>
                  <a:latin typeface="Bookman Old Style"/>
                </a:rPr>
                <a:t>Sunt artist</a:t>
              </a:r>
              <a:r>
                <a:rPr b="1" lang="ro-RO" sz="4800" spc="-1" strike="noStrike">
                  <a:solidFill>
                    <a:srgbClr val="003300"/>
                  </a:solidFill>
                  <a:latin typeface="Bookman Old Style"/>
                </a:rPr>
                <a:t>!!!</a:t>
              </a:r>
              <a:endParaRPr b="0" lang="en-US" sz="4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pic>
          <p:nvPicPr>
            <p:cNvPr id="151" name="Picture 4" descr="C:\Program Files\Common Files\Microsoft Shared\Clipart\cagcat50\PE03166_.wmf"/>
            <p:cNvPicPr/>
            <p:nvPr/>
          </p:nvPicPr>
          <p:blipFill>
            <a:blip r:embed="rId2"/>
            <a:stretch/>
          </p:blipFill>
          <p:spPr>
            <a:xfrm>
              <a:off x="2133720" y="3200400"/>
              <a:ext cx="2346120" cy="247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5" descr="C:\Program Files\Common Files\Microsoft Shared\Clipart\cagcat50\AN02097_.wmf"/>
            <p:cNvPicPr/>
            <p:nvPr/>
          </p:nvPicPr>
          <p:blipFill>
            <a:blip r:embed="rId3"/>
            <a:stretch/>
          </p:blipFill>
          <p:spPr>
            <a:xfrm>
              <a:off x="1066680" y="838080"/>
              <a:ext cx="2965680" cy="346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7" descr="C:\Program Files\Common Files\Microsoft Shared\Clipart\cagcat50\BD05584_.WMF"/>
            <p:cNvPicPr/>
            <p:nvPr/>
          </p:nvPicPr>
          <p:blipFill>
            <a:blip r:embed="rId4"/>
            <a:stretch/>
          </p:blipFill>
          <p:spPr>
            <a:xfrm>
              <a:off x="5943600" y="1219320"/>
              <a:ext cx="2589120" cy="34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8" descr="C:\Program Files\Common Files\Microsoft Shared\Clipart\cagcat50\PE02622_.wmf"/>
            <p:cNvPicPr/>
            <p:nvPr/>
          </p:nvPicPr>
          <p:blipFill>
            <a:blip r:embed="rId5"/>
            <a:stretch/>
          </p:blipFill>
          <p:spPr>
            <a:xfrm>
              <a:off x="4495680" y="3505320"/>
              <a:ext cx="1898640" cy="15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9" descr="C:\Program Files\Common Files\Microsoft Shared\Clipart\cagcat50\BD06455_.WMF"/>
            <p:cNvPicPr/>
            <p:nvPr/>
          </p:nvPicPr>
          <p:blipFill>
            <a:blip r:embed="rId6"/>
            <a:stretch/>
          </p:blipFill>
          <p:spPr>
            <a:xfrm>
              <a:off x="4191120" y="1219320"/>
              <a:ext cx="1888920" cy="1874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4. </a:t>
            </a:r>
            <a:r>
              <a:rPr b="1" lang="pt-BR" sz="3900" spc="-1" strike="noStrike">
                <a:solidFill>
                  <a:srgbClr val="00cc00"/>
                </a:solidFill>
                <a:latin typeface="Bookman Old Style"/>
              </a:rPr>
              <a:t>IMAGINEA DE SUPRAFA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Ţ</a:t>
            </a:r>
            <a:r>
              <a:rPr b="1" lang="pt-BR" sz="3900" spc="-1" strike="noStrike">
                <a:solidFill>
                  <a:srgbClr val="00cc00"/>
                </a:solidFill>
                <a:latin typeface="Bookman Old Style"/>
              </a:rPr>
              <a:t>Ă/ 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 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	</a:t>
            </a:r>
            <a:r>
              <a:rPr b="1" lang="pt-BR" sz="3900" spc="-1" strike="noStrike">
                <a:solidFill>
                  <a:srgbClr val="00cc00"/>
                </a:solidFill>
                <a:latin typeface="Bookman Old Style"/>
              </a:rPr>
              <a:t>INTERFA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Ţ</a:t>
            </a:r>
            <a:r>
              <a:rPr b="1" lang="pt-BR" sz="3900" spc="-1" strike="noStrike">
                <a:solidFill>
                  <a:srgbClr val="00cc00"/>
                </a:solidFill>
                <a:latin typeface="Bookman Old Style"/>
              </a:rPr>
              <a:t>A VIZIBILĂ:</a:t>
            </a:r>
            <a:endParaRPr b="0" lang="en-US" sz="3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Aveţi un inventar de modalităţi de atragere a atenţiei asupra unor anumite informaţii?* Folosiţi-le de o manieră uniformă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8" name="6-Point Star 3">
            <a:hlinkClick r:id="rId1" action="ppaction://hlinksldjump"/>
          </p:cNvPr>
          <p:cNvSpPr/>
          <p:nvPr/>
        </p:nvSpPr>
        <p:spPr>
          <a:xfrm rot="587400">
            <a:off x="4800240" y="3580920"/>
            <a:ext cx="3733920" cy="3276720"/>
          </a:xfrm>
          <a:prstGeom prst="pie">
            <a:avLst/>
          </a:prstGeom>
          <a:solidFill>
            <a:srgbClr val="cccc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Nu utili</a:t>
            </a:r>
            <a:r>
              <a:rPr b="0" lang="en-US" sz="1800" spc="-1" strike="noStrike">
                <a:solidFill>
                  <a:srgbClr val="000099"/>
                </a:solidFill>
                <a:latin typeface="Georgia"/>
                <a:ea typeface="Arial"/>
              </a:rPr>
              <a:t>z</a:t>
            </a: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ăm elemente multimedia </a:t>
            </a:r>
            <a:r>
              <a:rPr b="0" lang="en-US" sz="1800" spc="-1" strike="noStrike">
                <a:solidFill>
                  <a:srgbClr val="000099"/>
                </a:solidFill>
                <a:latin typeface="Georgia"/>
                <a:ea typeface="Arial"/>
              </a:rPr>
              <a:t>“</a:t>
            </a: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gratuite</a:t>
            </a:r>
            <a:r>
              <a:rPr b="0" lang="en-US" sz="1800" spc="-1" strike="noStrike">
                <a:solidFill>
                  <a:srgbClr val="000099"/>
                </a:solidFill>
                <a:latin typeface="Georgia"/>
                <a:ea typeface="Arial"/>
              </a:rPr>
              <a:t>”! </a:t>
            </a: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Elementele multimedia trebuie să susţină şi să sporească înţelegerea temei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050"/>
          <p:cNvSpPr/>
          <p:nvPr/>
        </p:nvSpPr>
        <p:spPr>
          <a:xfrm>
            <a:off x="1981080" y="914400"/>
            <a:ext cx="6348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3300"/>
                </a:solidFill>
                <a:latin typeface="Arial"/>
              </a:rPr>
              <a:t>What? Acu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’</a:t>
            </a:r>
            <a:r>
              <a:rPr b="0" lang="ro-RO" sz="4400" spc="-1" strike="noStrike">
                <a:solidFill>
                  <a:srgbClr val="003300"/>
                </a:solidFill>
                <a:latin typeface="Arial"/>
              </a:rPr>
              <a:t> doar ce am descoperit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o-RO" sz="4400" spc="-1" strike="noStrike">
                <a:solidFill>
                  <a:srgbClr val="003300"/>
                </a:solidFill>
                <a:latin typeface="Arial"/>
              </a:rPr>
              <a:t>fleşu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’</a:t>
            </a:r>
            <a:r>
              <a:rPr b="0" lang="ro-RO" sz="4400" spc="-1" strike="noStrike">
                <a:solidFill>
                  <a:srgbClr val="003300"/>
                </a:solidFill>
                <a:latin typeface="Arial"/>
              </a:rPr>
              <a:t>!!!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Rectangle 2051"/>
          <p:cNvSpPr/>
          <p:nvPr/>
        </p:nvSpPr>
        <p:spPr>
          <a:xfrm>
            <a:off x="5129280" y="2514600"/>
            <a:ext cx="3124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70000"/>
          </a:bodyPr>
          <a:p>
            <a:pPr marL="129960" indent="-129960">
              <a:spcBef>
                <a:spcPts val="10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ro-RO" sz="4000" spc="-1" strike="noStrike">
                <a:solidFill>
                  <a:srgbClr val="0099cc"/>
                </a:solidFill>
                <a:latin typeface="Arial"/>
              </a:rPr>
              <a:t>s</a:t>
            </a:r>
            <a:r>
              <a:rPr b="0" lang="ro-RO" sz="4000" spc="-1" strike="noStrike">
                <a:solidFill>
                  <a:srgbClr val="99cc00"/>
                </a:solidFill>
                <a:latin typeface="Arial"/>
              </a:rPr>
              <a:t>t</a:t>
            </a:r>
            <a:r>
              <a:rPr b="0" lang="ro-RO" sz="4000" spc="-1" strike="noStrike">
                <a:solidFill>
                  <a:srgbClr val="00ff00"/>
                </a:solidFill>
                <a:latin typeface="Arial"/>
              </a:rPr>
              <a:t>e</a:t>
            </a:r>
            <a:r>
              <a:rPr b="0" lang="ro-RO" sz="4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o-RO" sz="4000" spc="-1" strike="noStrike">
                <a:solidFill>
                  <a:srgbClr val="003399"/>
                </a:solidFill>
                <a:latin typeface="Arial"/>
              </a:rPr>
              <a:t>f</a:t>
            </a:r>
            <a:r>
              <a:rPr b="0" lang="ro-RO" sz="4000" spc="-1" strike="noStrike">
                <a:solidFill>
                  <a:srgbClr val="ffff99"/>
                </a:solidFill>
                <a:latin typeface="Arial"/>
              </a:rPr>
              <a:t>o</a:t>
            </a:r>
            <a:r>
              <a:rPr b="0" lang="ro-RO" sz="4000" spc="-1" strike="noStrike">
                <a:solidFill>
                  <a:srgbClr val="008000"/>
                </a:solidFill>
                <a:latin typeface="Arial"/>
              </a:rPr>
              <a:t>a</a:t>
            </a:r>
            <a:r>
              <a:rPr b="0" lang="ro-RO" sz="4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ro-RO" sz="4000" spc="-1" strike="noStrike">
                <a:solidFill>
                  <a:srgbClr val="99cc00"/>
                </a:solidFill>
                <a:latin typeface="Arial"/>
              </a:rPr>
              <a:t>t</a:t>
            </a:r>
            <a:r>
              <a:rPr b="0" lang="ro-RO" sz="4000" spc="-1" strike="noStrike">
                <a:solidFill>
                  <a:srgbClr val="003300"/>
                </a:solidFill>
                <a:latin typeface="Arial"/>
              </a:rPr>
              <a:t>e </a:t>
            </a:r>
            <a:r>
              <a:rPr b="0" lang="ro-RO" sz="4000" spc="-1" strike="noStrike">
                <a:solidFill>
                  <a:srgbClr val="99cc00"/>
                </a:solidFill>
                <a:latin typeface="Arial"/>
              </a:rPr>
              <a:t>f</a:t>
            </a:r>
            <a:r>
              <a:rPr b="0" lang="ro-RO" sz="4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ro-RO" sz="4000" spc="-1" strike="noStrike">
                <a:solidFill>
                  <a:srgbClr val="003399"/>
                </a:solidFill>
                <a:latin typeface="Arial"/>
              </a:rPr>
              <a:t>u</a:t>
            </a:r>
            <a:r>
              <a:rPr b="0" lang="ro-RO" sz="4000" spc="-1" strike="noStrike">
                <a:solidFill>
                  <a:srgbClr val="99cc00"/>
                </a:solidFill>
                <a:latin typeface="Arial"/>
              </a:rPr>
              <a:t>m</a:t>
            </a:r>
            <a:r>
              <a:rPr b="0" lang="ro-RO" sz="40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ro-RO" sz="4000" spc="-1" strike="noStrike">
                <a:solidFill>
                  <a:srgbClr val="66ccff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Rectangle 2052"/>
          <p:cNvSpPr/>
          <p:nvPr/>
        </p:nvSpPr>
        <p:spPr>
          <a:xfrm>
            <a:off x="709560" y="3200400"/>
            <a:ext cx="3124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85760" indent="-185760">
              <a:lnSpc>
                <a:spcPct val="110000"/>
              </a:lnSpc>
              <a:spcBef>
                <a:spcPts val="1400"/>
              </a:spcBef>
              <a:buClr>
                <a:srgbClr val="00cc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3300"/>
                </a:solidFill>
                <a:latin typeface="Arial Unicode MS"/>
              </a:rPr>
              <a:t>C</a:t>
            </a:r>
            <a:r>
              <a:rPr b="1" lang="ro-RO" sz="2800" spc="-1" strike="noStrike">
                <a:solidFill>
                  <a:srgbClr val="cc3300"/>
                </a:solidFill>
                <a:latin typeface="DFKai-SB"/>
              </a:rPr>
              <a:t>hi</a:t>
            </a:r>
            <a:r>
              <a:rPr b="1" lang="ro-RO" sz="2800" spc="-1" strike="noStrike">
                <a:solidFill>
                  <a:srgbClr val="cc3300"/>
                </a:solidFill>
                <a:latin typeface="FrankRuehl"/>
              </a:rPr>
              <a:t>a</a:t>
            </a:r>
            <a:r>
              <a:rPr b="1" lang="ro-RO" sz="2800" spc="-1" strike="noStrike">
                <a:solidFill>
                  <a:srgbClr val="cc3300"/>
                </a:solidFill>
                <a:latin typeface="DFKai-SB"/>
              </a:rPr>
              <a:t>r</a:t>
            </a:r>
            <a:r>
              <a:rPr b="1" lang="ro-RO" sz="2800" spc="-1" strike="noStrike">
                <a:solidFill>
                  <a:srgbClr val="cc3300"/>
                </a:solidFill>
                <a:latin typeface="Garamond"/>
              </a:rPr>
              <a:t> </a:t>
            </a:r>
            <a:r>
              <a:rPr b="1" lang="ro-RO" sz="2800" spc="-1" strike="noStrike">
                <a:solidFill>
                  <a:srgbClr val="cc3300"/>
                </a:solidFill>
                <a:latin typeface="Sydnie"/>
              </a:rPr>
              <a:t>m</a:t>
            </a:r>
            <a:r>
              <a:rPr b="1" lang="ro-RO" sz="2800" spc="-1" strike="noStrike">
                <a:solidFill>
                  <a:srgbClr val="cc3300"/>
                </a:solidFill>
                <a:latin typeface="Euphemia"/>
              </a:rPr>
              <a:t>ă</a:t>
            </a:r>
            <a:r>
              <a:rPr b="1" lang="ro-RO" sz="2800" spc="-1" strike="noStrike">
                <a:solidFill>
                  <a:srgbClr val="cc3300"/>
                </a:solidFill>
                <a:latin typeface="Garamond"/>
              </a:rPr>
              <a:t> </a:t>
            </a:r>
            <a:r>
              <a:rPr b="1" lang="ro-RO" sz="2800" spc="-1" strike="noStrike">
                <a:solidFill>
                  <a:srgbClr val="cc3300"/>
                </a:solidFill>
                <a:latin typeface="Andalus"/>
              </a:rPr>
              <a:t>p</a:t>
            </a:r>
            <a:r>
              <a:rPr b="1" lang="ro-RO" sz="2800" spc="-1" strike="noStrike">
                <a:solidFill>
                  <a:srgbClr val="cc3300"/>
                </a:solidFill>
                <a:latin typeface="Arabic Typesetting"/>
              </a:rPr>
              <a:t>r</a:t>
            </a:r>
            <a:r>
              <a:rPr b="1" lang="ro-RO" sz="2800" spc="-1" strike="noStrike">
                <a:solidFill>
                  <a:srgbClr val="cc3300"/>
                </a:solidFill>
                <a:latin typeface="Haettenschweiler"/>
              </a:rPr>
              <a:t>ic</a:t>
            </a:r>
            <a:r>
              <a:rPr b="1" lang="ro-RO" sz="2800" spc="-1" strike="noStrike">
                <a:solidFill>
                  <a:srgbClr val="cc3300"/>
                </a:solidFill>
                <a:latin typeface="Lucida Sans Unicode"/>
              </a:rPr>
              <a:t>e</a:t>
            </a:r>
            <a:r>
              <a:rPr b="1" lang="ro-RO" sz="2800" spc="-1" strike="noStrike">
                <a:solidFill>
                  <a:srgbClr val="cc3300"/>
                </a:solidFill>
                <a:latin typeface="Segoe Script"/>
              </a:rPr>
              <a:t>p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Rectangle 2053"/>
          <p:cNvSpPr/>
          <p:nvPr/>
        </p:nvSpPr>
        <p:spPr>
          <a:xfrm>
            <a:off x="3681360" y="4114800"/>
            <a:ext cx="4419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85760" indent="-185760">
              <a:lnSpc>
                <a:spcPct val="110000"/>
              </a:lnSpc>
              <a:spcBef>
                <a:spcPts val="1400"/>
              </a:spcBef>
              <a:buClr>
                <a:srgbClr val="00cc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3300"/>
                </a:solidFill>
                <a:latin typeface="Garamond"/>
              </a:rPr>
              <a:t>CARE AR FI MAI CLAR</a:t>
            </a:r>
            <a:r>
              <a:rPr b="1" lang="ro-RO" sz="2800" spc="-1" strike="noStrike">
                <a:solidFill>
                  <a:srgbClr val="cc3300"/>
                </a:solidFill>
                <a:latin typeface="Garamond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185760" indent="-185760">
              <a:lnSpc>
                <a:spcPct val="110000"/>
              </a:lnSpc>
              <a:spcBef>
                <a:spcPts val="1400"/>
              </a:spcBef>
              <a:buClr>
                <a:srgbClr val="00cc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3300"/>
                </a:solidFill>
                <a:latin typeface="Garamond"/>
              </a:rPr>
              <a:t>Care ar fi mai clar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185760" indent="-185760">
              <a:lnSpc>
                <a:spcPct val="110000"/>
              </a:lnSpc>
              <a:spcBef>
                <a:spcPts val="1400"/>
              </a:spcBef>
              <a:buClr>
                <a:srgbClr val="00cc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cc3300"/>
                </a:solidFill>
                <a:latin typeface="Garamond"/>
              </a:rPr>
              <a:t>Care ar fi mai clar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3" name="Rectangle 2054"/>
          <p:cNvSpPr/>
          <p:nvPr/>
        </p:nvSpPr>
        <p:spPr>
          <a:xfrm>
            <a:off x="709560" y="5715000"/>
            <a:ext cx="4419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85760" indent="-185760">
              <a:lnSpc>
                <a:spcPct val="110000"/>
              </a:lnSpc>
              <a:spcBef>
                <a:spcPts val="1400"/>
              </a:spcBef>
              <a:buClr>
                <a:srgbClr val="00cc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3300"/>
                </a:solidFill>
                <a:latin typeface="Microsoft Sans Serif"/>
              </a:rPr>
              <a:t>Sans_Serif, sans_serif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185760" indent="-185760">
              <a:lnSpc>
                <a:spcPct val="110000"/>
              </a:lnSpc>
              <a:spcBef>
                <a:spcPts val="1400"/>
              </a:spcBef>
              <a:buClr>
                <a:srgbClr val="00cc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3300"/>
                </a:solidFill>
                <a:latin typeface="Palatino Linotype"/>
              </a:rPr>
              <a:t>Serif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7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7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304920" y="380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…</a:t>
            </a:r>
            <a:r>
              <a:rPr b="0" lang="ro-RO" sz="3600" spc="-1" strike="noStrike">
                <a:solidFill>
                  <a:srgbClr val="003300"/>
                </a:solidFill>
                <a:latin typeface="Arial"/>
              </a:rPr>
              <a:t>și</a:t>
            </a: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o-RO" sz="3600" spc="-1" strike="noStrike">
                <a:solidFill>
                  <a:srgbClr val="003300"/>
                </a:solidFill>
                <a:latin typeface="Arial"/>
              </a:rPr>
              <a:t>vreau</a:t>
            </a: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 cu</a:t>
            </a:r>
            <a:r>
              <a:rPr b="0" lang="ro-RO" sz="3600" spc="-1" strike="noStrike">
                <a:solidFill>
                  <a:srgbClr val="003300"/>
                </a:solidFill>
                <a:latin typeface="Arial"/>
              </a:rPr>
              <a:t> claritate să vă enervez</a:t>
            </a: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o-RO" sz="3600" spc="-1" strike="noStrike">
                <a:solidFill>
                  <a:srgbClr val="003300"/>
                </a:solidFill>
                <a:latin typeface="Arial"/>
              </a:rPr>
              <a:t>!!!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5" name="Picture 4" descr="C:\Program Files\Common Files\Microsoft Shared\Clipart\themes1\Bullets\BD15018_.GIF"/>
          <p:cNvPicPr/>
          <p:nvPr/>
        </p:nvPicPr>
        <p:blipFill>
          <a:blip r:embed="rId1"/>
          <a:stretch/>
        </p:blipFill>
        <p:spPr>
          <a:xfrm>
            <a:off x="990720" y="198108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C:\Program Files\Common Files\Microsoft Shared\Clipart\themes1\Bullets\BD10253_.GIF"/>
          <p:cNvPicPr/>
          <p:nvPr/>
        </p:nvPicPr>
        <p:blipFill>
          <a:blip r:embed="rId2"/>
          <a:stretch/>
        </p:blipFill>
        <p:spPr>
          <a:xfrm>
            <a:off x="6477120" y="1523880"/>
            <a:ext cx="1685880" cy="1685880"/>
          </a:xfrm>
          <a:prstGeom prst="rect">
            <a:avLst/>
          </a:prstGeom>
          <a:ln w="0">
            <a:noFill/>
          </a:ln>
        </p:spPr>
      </p:pic>
      <p:pic>
        <p:nvPicPr>
          <p:cNvPr id="167" name="Butterfly.wmv" descr=""/>
          <p:cNvPicPr/>
          <p:nvPr/>
        </p:nvPicPr>
        <p:blipFill>
          <a:blip r:embed="rId3"/>
          <a:stretch/>
        </p:blipFill>
        <p:spPr>
          <a:xfrm>
            <a:off x="4191120" y="350532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"/>
          <p:cNvPicPr/>
          <p:nvPr/>
        </p:nvPicPr>
        <p:blipFill>
          <a:blip r:embed="rId4"/>
          <a:stretch/>
        </p:blipFill>
        <p:spPr>
          <a:xfrm>
            <a:off x="480060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9" name="FingerprintSuccess.wav" descr=""/>
          <p:cNvPicPr/>
          <p:nvPr/>
        </p:nvPicPr>
        <p:blipFill>
          <a:blip r:embed="rId5"/>
          <a:stretch/>
        </p:blipFill>
        <p:spPr>
          <a:xfrm>
            <a:off x="403848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2971800" y="5029200"/>
            <a:ext cx="990720" cy="14382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3"/>
          <p:cNvSpPr/>
          <p:nvPr/>
        </p:nvSpPr>
        <p:spPr>
          <a:xfrm>
            <a:off x="581040" y="5699160"/>
            <a:ext cx="26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5f5f5f"/>
                </a:solidFill>
                <a:latin typeface="Bookman Old Style"/>
              </a:rPr>
              <a:t>O fi bine aşa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3488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488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4. </a:t>
            </a:r>
            <a:r>
              <a:rPr b="1" lang="pt-BR" sz="3900" spc="-1" strike="noStrike">
                <a:solidFill>
                  <a:srgbClr val="00cc00"/>
                </a:solidFill>
                <a:latin typeface="Bookman Old Style"/>
              </a:rPr>
              <a:t>IMAGINEA DE SUPRAFA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Ţ</a:t>
            </a:r>
            <a:r>
              <a:rPr b="1" lang="pt-BR" sz="3900" spc="-1" strike="noStrike">
                <a:solidFill>
                  <a:srgbClr val="00cc00"/>
                </a:solidFill>
                <a:latin typeface="Bookman Old Style"/>
              </a:rPr>
              <a:t>Ă/ 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 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	</a:t>
            </a:r>
            <a:r>
              <a:rPr b="1" lang="pt-BR" sz="3900" spc="-1" strike="noStrike">
                <a:solidFill>
                  <a:srgbClr val="00cc00"/>
                </a:solidFill>
                <a:latin typeface="Bookman Old Style"/>
              </a:rPr>
              <a:t>INTERFA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Ţ</a:t>
            </a:r>
            <a:r>
              <a:rPr b="1" lang="pt-BR" sz="3900" spc="-1" strike="noStrike">
                <a:solidFill>
                  <a:srgbClr val="00cc00"/>
                </a:solidFill>
                <a:latin typeface="Bookman Old Style"/>
              </a:rPr>
              <a:t>A VIZIBILĂ:</a:t>
            </a:r>
            <a:endParaRPr b="0" lang="en-US" sz="3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99"/>
                </a:solidFill>
                <a:latin typeface="Arial"/>
              </a:rPr>
              <a:t>În modul de prezentare (texte, grafice, imagini fixe/animate, audio, video) care susţine învăţarea, culorile sunt folosite adecvat?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(De ex., </a:t>
            </a: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Rosul</a:t>
            </a: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 şi </a:t>
            </a:r>
            <a:r>
              <a:rPr b="0" lang="ro-RO" sz="3200" spc="-1" strike="noStrike">
                <a:solidFill>
                  <a:srgbClr val="000099"/>
                </a:solidFill>
                <a:latin typeface="Arial"/>
              </a:rPr>
              <a:t>albastrul</a:t>
            </a: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, fiind la extremele spectrului vizibil, sunt culorile cele mai dificil de perceput!)*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4. </a:t>
            </a:r>
            <a:r>
              <a:rPr b="1" lang="pt-BR" sz="3900" spc="-1" strike="noStrike">
                <a:solidFill>
                  <a:srgbClr val="00cc00"/>
                </a:solidFill>
                <a:latin typeface="Bookman Old Style"/>
              </a:rPr>
              <a:t>IMAGINEA DE SUPRAFA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Ţ</a:t>
            </a:r>
            <a:r>
              <a:rPr b="1" lang="pt-BR" sz="3900" spc="-1" strike="noStrike">
                <a:solidFill>
                  <a:srgbClr val="00cc00"/>
                </a:solidFill>
                <a:latin typeface="Bookman Old Style"/>
              </a:rPr>
              <a:t>Ă/ 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 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	</a:t>
            </a:r>
            <a:r>
              <a:rPr b="1" lang="pt-BR" sz="3900" spc="-1" strike="noStrike">
                <a:solidFill>
                  <a:srgbClr val="00cc00"/>
                </a:solidFill>
                <a:latin typeface="Bookman Old Style"/>
              </a:rPr>
              <a:t>INTERFA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Ţ</a:t>
            </a:r>
            <a:r>
              <a:rPr b="1" lang="pt-BR" sz="3900" spc="-1" strike="noStrike">
                <a:solidFill>
                  <a:srgbClr val="00cc00"/>
                </a:solidFill>
                <a:latin typeface="Bookman Old Style"/>
              </a:rPr>
              <a:t>A VIZIBILĂ:</a:t>
            </a:r>
            <a:endParaRPr b="0" lang="en-US" sz="3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87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99"/>
                </a:solidFill>
                <a:latin typeface="Arial"/>
              </a:rPr>
              <a:t>Cum aţi gândit controlul pe care elevul îl va avea asupra programului? În afară de reacţiile determinate de parcurgerea “standard” a programului, se oferă şi un control funcţional – întreruperea (cu reluare amânată), întoarcerea la o secvenţă parcursă, accesarea unui “help”, vizualizarea distanţei parcurse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6" name="6-Point Star 3"/>
          <p:cNvSpPr/>
          <p:nvPr/>
        </p:nvSpPr>
        <p:spPr>
          <a:xfrm rot="648000">
            <a:off x="5257800" y="2742840"/>
            <a:ext cx="3886200" cy="3886200"/>
          </a:xfrm>
          <a:prstGeom prst="pie">
            <a:avLst/>
          </a:prstGeom>
          <a:solidFill>
            <a:srgbClr val="cccc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Pe parcursul lecţiei permitem reluarea rezolvării sarcinilor de lucru, oferind multiple variante pe aceeaşi sarcină de lucru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Bookman Old Style"/>
              </a:rPr>
              <a:t>5. EVALUAREA: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00"/>
                </a:solidFill>
                <a:latin typeface="Arial"/>
              </a:rPr>
              <a:t>Este important să diferenţiem evaluarea </a:t>
            </a:r>
            <a:r>
              <a:rPr b="1" lang="ro-RO" sz="2800" spc="-1" strike="noStrike" u="sng">
                <a:solidFill>
                  <a:srgbClr val="003300"/>
                </a:solidFill>
                <a:uFillTx/>
                <a:latin typeface="Arial"/>
              </a:rPr>
              <a:t>formativă</a:t>
            </a:r>
            <a:r>
              <a:rPr b="0" lang="ro-RO" sz="2800" spc="-1" strike="noStrike">
                <a:solidFill>
                  <a:srgbClr val="003300"/>
                </a:solidFill>
                <a:latin typeface="Arial"/>
              </a:rPr>
              <a:t> /pe parcurs, de evaluarea </a:t>
            </a:r>
            <a:r>
              <a:rPr b="1" lang="ro-RO" sz="2800" spc="-1" strike="noStrike" u="sng">
                <a:solidFill>
                  <a:srgbClr val="003300"/>
                </a:solidFill>
                <a:uFillTx/>
                <a:latin typeface="Arial"/>
              </a:rPr>
              <a:t>sumativă</a:t>
            </a:r>
            <a:r>
              <a:rPr b="0" lang="ro-RO" sz="2800" spc="-1" strike="noStrike">
                <a:solidFill>
                  <a:srgbClr val="003300"/>
                </a:solidFill>
                <a:latin typeface="Arial"/>
              </a:rPr>
              <a:t> prin care se marchează nivelul de performanţă reuşit de elev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00"/>
                </a:solidFill>
                <a:latin typeface="Arial"/>
              </a:rPr>
              <a:t>Ar fi util să încercaţi a construi itemii de control / evaluare formativă de o manieră gradată, luând ca scală ierarhică secvenţe din </a:t>
            </a:r>
            <a:r>
              <a:rPr b="1" lang="ro-RO" sz="2800" spc="-1" strike="noStrike">
                <a:solidFill>
                  <a:srgbClr val="003300"/>
                </a:solidFill>
                <a:latin typeface="Arial"/>
              </a:rPr>
              <a:t>taxonomia Bloom-Anderson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Bookman Old Style"/>
              </a:rPr>
              <a:t>5. EVALUAREA: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Oferim </a:t>
            </a:r>
            <a:r>
              <a:rPr b="1" lang="ro-RO" sz="3200" spc="-1" strike="noStrike">
                <a:solidFill>
                  <a:srgbClr val="003300"/>
                </a:solidFill>
                <a:latin typeface="Arial"/>
              </a:rPr>
              <a:t>feed-back</a:t>
            </a: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 explicativ pentru fiecare sarcină de lucru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Feedback-ul poate conţine şi un diagnostic, cu direcţionare către suportul teoretic/exemplificativ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6-Point Star 3"/>
          <p:cNvSpPr/>
          <p:nvPr/>
        </p:nvSpPr>
        <p:spPr>
          <a:xfrm rot="1480200">
            <a:off x="5219280" y="3390480"/>
            <a:ext cx="3505320" cy="3505320"/>
          </a:xfrm>
          <a:prstGeom prst="pie">
            <a:avLst/>
          </a:prstGeom>
          <a:solidFill>
            <a:srgbClr val="cccc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În cazul unui feed</a:t>
            </a:r>
            <a:r>
              <a:rPr b="0" lang="en-US" sz="1800" spc="-1" strike="noStrike">
                <a:solidFill>
                  <a:srgbClr val="000099"/>
                </a:solidFill>
                <a:latin typeface="Georgia"/>
                <a:ea typeface="Arial"/>
              </a:rPr>
              <a:t>-</a:t>
            </a: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back negativ, oferim acces la indicaţii de re</a:t>
            </a:r>
            <a:r>
              <a:rPr b="0" lang="en-US" sz="1800" spc="-1" strike="noStrike">
                <a:solidFill>
                  <a:srgbClr val="000099"/>
                </a:solidFill>
                <a:latin typeface="Georgia"/>
                <a:ea typeface="Arial"/>
              </a:rPr>
              <a:t>z</a:t>
            </a: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olvare, care să</a:t>
            </a:r>
            <a:r>
              <a:rPr b="0" lang="en-US" sz="1800" spc="-1" strike="noStrike">
                <a:solidFill>
                  <a:srgbClr val="000099"/>
                </a:solidFill>
                <a:latin typeface="Georgia"/>
                <a:ea typeface="Arial"/>
              </a:rPr>
              <a:t>-</a:t>
            </a: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l ghide</a:t>
            </a:r>
            <a:r>
              <a:rPr b="0" lang="en-US" sz="1800" spc="-1" strike="noStrike">
                <a:solidFill>
                  <a:srgbClr val="000099"/>
                </a:solidFill>
                <a:latin typeface="Georgia"/>
                <a:ea typeface="Arial"/>
              </a:rPr>
              <a:t>z</a:t>
            </a: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e pe elev către soluţie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00"/>
                </a:solidFill>
                <a:latin typeface="Bookman Old Style"/>
              </a:rPr>
              <a:t>PROIECTAREA PEDAGOGICĂ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34120" y="3174840"/>
            <a:ext cx="3971880" cy="3683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4920" y="2133720"/>
            <a:ext cx="6705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cc00"/>
                </a:solidFill>
                <a:latin typeface="Bookman Old Style"/>
              </a:rPr>
              <a:t>RECOMANDĂRI GENERALE –</a:t>
            </a:r>
            <a:br>
              <a:rPr sz="3200"/>
            </a:b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cc00"/>
                </a:solidFill>
                <a:latin typeface="Bookman Old Style"/>
              </a:rPr>
              <a:t>JALOANE</a:t>
            </a:r>
            <a:r>
              <a:rPr b="1" lang="ro-RO" sz="3200" spc="-1" strike="noStrike">
                <a:solidFill>
                  <a:srgbClr val="00cc00"/>
                </a:solidFill>
                <a:latin typeface="Bookman Old Style"/>
              </a:rPr>
              <a:t> </a:t>
            </a:r>
            <a:r>
              <a:rPr b="1" lang="it-IT" sz="3200" spc="-1" strike="noStrike">
                <a:solidFill>
                  <a:srgbClr val="00cc00"/>
                </a:solidFill>
                <a:latin typeface="Bookman Old Style"/>
              </a:rPr>
              <a:t>ORIENTATIV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Bookman Old Style"/>
              </a:rPr>
              <a:t>JOCUL DIDACTIC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Mizăm pe valenţele educative şi atractivitatea jocului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4" name="6-Point Star 3"/>
          <p:cNvSpPr/>
          <p:nvPr/>
        </p:nvSpPr>
        <p:spPr>
          <a:xfrm flipH="1" flipV="1" rot="11284800">
            <a:off x="5528520" y="2980080"/>
            <a:ext cx="3408480" cy="3157560"/>
          </a:xfrm>
          <a:prstGeom prst="pie">
            <a:avLst/>
          </a:prstGeom>
          <a:solidFill>
            <a:srgbClr val="cccc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Georgia"/>
                <a:ea typeface="Arial"/>
              </a:rPr>
              <a:t>Oriunde este posibil, introducem un joc didactic!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Bookman Old Style"/>
              </a:rPr>
              <a:t>HELP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Inter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Extern (manualul profesorului)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7" name="6-Point Star 3"/>
          <p:cNvSpPr/>
          <p:nvPr/>
        </p:nvSpPr>
        <p:spPr>
          <a:xfrm rot="499800">
            <a:off x="5560560" y="3203640"/>
            <a:ext cx="3353040" cy="3429000"/>
          </a:xfrm>
          <a:prstGeom prst="pie">
            <a:avLst/>
          </a:prstGeom>
          <a:solidFill>
            <a:srgbClr val="cccc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Georgia"/>
                <a:ea typeface="Arial"/>
              </a:rPr>
              <a:t>Trebuie s</a:t>
            </a: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ă oferim indicaţii de utilizare didactică şi funcţională a aplicaţiei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1600200" y="76212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cc00"/>
                </a:solidFill>
                <a:latin typeface="Bookman Old Style"/>
              </a:rPr>
              <a:t>REGULILE DE BAZĂ ...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89" name="Group 19"/>
          <p:cNvGrpSpPr/>
          <p:nvPr/>
        </p:nvGrpSpPr>
        <p:grpSpPr>
          <a:xfrm>
            <a:off x="762120" y="1905120"/>
            <a:ext cx="7731000" cy="4084560"/>
            <a:chOff x="762120" y="1905120"/>
            <a:chExt cx="7731000" cy="4084560"/>
          </a:xfrm>
        </p:grpSpPr>
        <p:pic>
          <p:nvPicPr>
            <p:cNvPr id="190" name="Picture 20" descr="C:\Users\raduj\Documents\Curs_prezentari\Curs_Sesiune_II\IMG\Curs_III\simplu.jpg"/>
            <p:cNvPicPr/>
            <p:nvPr/>
          </p:nvPicPr>
          <p:blipFill>
            <a:blip r:embed="rId1"/>
            <a:stretch/>
          </p:blipFill>
          <p:spPr>
            <a:xfrm>
              <a:off x="762120" y="1905120"/>
              <a:ext cx="2396880" cy="17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21" descr="C:\Users\raduj\Documents\Curs_prezentari\Curs_Sesiune_II\IMG\Curs_III\unexpect.jpg"/>
            <p:cNvPicPr/>
            <p:nvPr/>
          </p:nvPicPr>
          <p:blipFill>
            <a:blip r:embed="rId2"/>
            <a:stretch/>
          </p:blipFill>
          <p:spPr>
            <a:xfrm>
              <a:off x="3429000" y="1905120"/>
              <a:ext cx="2403360" cy="17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22" descr="C:\Users\raduj\Documents\Curs_prezentari\Curs_Sesiune_II\IMG\Curs_III\concret.jpg"/>
            <p:cNvPicPr/>
            <p:nvPr/>
          </p:nvPicPr>
          <p:blipFill>
            <a:blip r:embed="rId3"/>
            <a:stretch/>
          </p:blipFill>
          <p:spPr>
            <a:xfrm>
              <a:off x="6095880" y="1905120"/>
              <a:ext cx="2397240" cy="17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23" descr="C:\Users\raduj\Documents\Curs_prezentari\Curs_Sesiune_II\IMG\Curs_III\credibil.jpg"/>
            <p:cNvPicPr/>
            <p:nvPr/>
          </p:nvPicPr>
          <p:blipFill>
            <a:blip r:embed="rId4"/>
            <a:stretch/>
          </p:blipFill>
          <p:spPr>
            <a:xfrm>
              <a:off x="762120" y="4191120"/>
              <a:ext cx="2396880" cy="17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24" descr="C:\Users\raduj\Documents\Curs_prezentari\Curs_Sesiune_II\IMG\Curs_III\emotion.jpg"/>
            <p:cNvPicPr/>
            <p:nvPr/>
          </p:nvPicPr>
          <p:blipFill>
            <a:blip r:embed="rId5"/>
            <a:stretch/>
          </p:blipFill>
          <p:spPr>
            <a:xfrm>
              <a:off x="3429000" y="4191120"/>
              <a:ext cx="2403360" cy="17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25" descr="C:\Users\raduj\Documents\Curs_prezentari\Curs_Sesiune_II\IMG\Curs_III\poveste.jpg"/>
            <p:cNvPicPr/>
            <p:nvPr/>
          </p:nvPicPr>
          <p:blipFill>
            <a:blip r:embed="rId6"/>
            <a:stretch/>
          </p:blipFill>
          <p:spPr>
            <a:xfrm>
              <a:off x="6095880" y="4191120"/>
              <a:ext cx="2397240" cy="179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cc00"/>
                </a:solidFill>
                <a:latin typeface="Bookman Old Style"/>
              </a:rPr>
              <a:t>Î</a:t>
            </a:r>
            <a:r>
              <a:rPr b="1" lang="it-IT" sz="4400" spc="-1" strike="noStrike">
                <a:solidFill>
                  <a:srgbClr val="00cc00"/>
                </a:solidFill>
                <a:latin typeface="Bookman Old Style"/>
              </a:rPr>
              <a:t>N CONCLUZIE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00"/>
                </a:solidFill>
                <a:latin typeface="Arial"/>
              </a:rPr>
              <a:t>...avem nevoie de atitudine!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98" name="Picture 5" descr="louis_armstron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2536920"/>
            <a:ext cx="32306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10"/>
          <p:cNvGrpSpPr/>
          <p:nvPr/>
        </p:nvGrpSpPr>
        <p:grpSpPr>
          <a:xfrm>
            <a:off x="533520" y="2133720"/>
            <a:ext cx="6858000" cy="4839840"/>
            <a:chOff x="533520" y="2133720"/>
            <a:chExt cx="6858000" cy="4839840"/>
          </a:xfrm>
        </p:grpSpPr>
        <p:pic>
          <p:nvPicPr>
            <p:cNvPr id="200" name="Picture 5" descr="platoaristo"/>
            <p:cNvPicPr/>
            <p:nvPr/>
          </p:nvPicPr>
          <p:blipFill>
            <a:blip r:embed="rId1"/>
            <a:stretch/>
          </p:blipFill>
          <p:spPr>
            <a:xfrm>
              <a:off x="533520" y="2133720"/>
              <a:ext cx="3124080" cy="40510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201" name="Text Box 6"/>
            <p:cNvSpPr/>
            <p:nvPr/>
          </p:nvSpPr>
          <p:spPr>
            <a:xfrm>
              <a:off x="3962520" y="2743200"/>
              <a:ext cx="3429000" cy="42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f5f5f"/>
                  </a:solidFill>
                  <a:latin typeface="SIVECO Office"/>
                  <a:ea typeface="Times New Roman"/>
                </a:rPr>
                <a:t>	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5f5f5f"/>
                  </a:solidFill>
                  <a:latin typeface="SIVECO Office"/>
                  <a:ea typeface="Times New Roman"/>
                </a:rPr>
                <a:t>…</a:t>
              </a:r>
              <a:r>
                <a:rPr b="1" i="1" lang="ro-RO" sz="2400" spc="-1" strike="noStrike">
                  <a:solidFill>
                    <a:srgbClr val="5f5f5f"/>
                  </a:solidFill>
                  <a:latin typeface="SIVECO Office"/>
                  <a:ea typeface="Times New Roman"/>
                </a:rPr>
                <a:t>se va recunoa</a:t>
              </a:r>
              <a:r>
                <a:rPr b="1" i="1" lang="ro-RO" sz="2400" spc="-1" strike="noStrike">
                  <a:solidFill>
                    <a:srgbClr val="5f5f5f"/>
                  </a:solidFill>
                  <a:latin typeface="SIVECO Office"/>
                </a:rPr>
                <a:t>ş</a:t>
              </a:r>
              <a:r>
                <a:rPr b="1" i="1" lang="ro-RO" sz="2400" spc="-1" strike="noStrike">
                  <a:solidFill>
                    <a:srgbClr val="5f5f5f"/>
                  </a:solidFill>
                  <a:latin typeface="SIVECO Office"/>
                  <a:ea typeface="Times New Roman"/>
                </a:rPr>
                <a:t>te ce am realizat </a:t>
              </a:r>
              <a:r>
                <a:rPr b="1" i="1" lang="ro-RO" sz="2400" spc="-1" strike="noStrike">
                  <a:solidFill>
                    <a:srgbClr val="5f5f5f"/>
                  </a:solidFill>
                  <a:latin typeface="SIVECO Office"/>
                </a:rPr>
                <a:t>ş</a:t>
              </a:r>
              <a:r>
                <a:rPr b="1" i="1" lang="ro-RO" sz="2400" spc="-1" strike="noStrike">
                  <a:solidFill>
                    <a:srgbClr val="5f5f5f"/>
                  </a:solidFill>
                  <a:latin typeface="SIVECO Office"/>
                  <a:ea typeface="Times New Roman"/>
                </a:rPr>
                <a:t>i se va ierta ceea ce am l</a:t>
              </a:r>
              <a:r>
                <a:rPr b="1" i="1" lang="ro-RO" sz="2400" spc="-1" strike="noStrike">
                  <a:solidFill>
                    <a:srgbClr val="5f5f5f"/>
                  </a:solidFill>
                  <a:latin typeface="SIVECO Office"/>
                </a:rPr>
                <a:t>ă</a:t>
              </a:r>
              <a:r>
                <a:rPr b="1" i="1" lang="ro-RO" sz="2400" spc="-1" strike="noStrike">
                  <a:solidFill>
                    <a:srgbClr val="5f5f5f"/>
                  </a:solidFill>
                  <a:latin typeface="SIVECO Office"/>
                  <a:ea typeface="Times New Roman"/>
                </a:rPr>
                <a:t>sat altora s</a:t>
              </a:r>
              <a:r>
                <a:rPr b="1" i="1" lang="ro-RO" sz="2400" spc="-1" strike="noStrike">
                  <a:solidFill>
                    <a:srgbClr val="5f5f5f"/>
                  </a:solidFill>
                  <a:latin typeface="SIVECO Office"/>
                </a:rPr>
                <a:t>ă</a:t>
              </a:r>
              <a:r>
                <a:rPr b="1" i="1" lang="ro-RO" sz="2400" spc="-1" strike="noStrike">
                  <a:solidFill>
                    <a:srgbClr val="5f5f5f"/>
                  </a:solidFill>
                  <a:latin typeface="SIVECO Office"/>
                  <a:ea typeface="Times New Roman"/>
                </a:rPr>
                <a:t> </a:t>
              </a:r>
              <a:r>
                <a:rPr b="1" i="1" lang="ro-RO" sz="2400" spc="-1" strike="noStrike">
                  <a:solidFill>
                    <a:srgbClr val="5f5f5f"/>
                  </a:solidFill>
                  <a:latin typeface="SIVECO Office"/>
                </a:rPr>
                <a:t>î</a:t>
              </a:r>
              <a:r>
                <a:rPr b="1" i="1" lang="ro-RO" sz="2400" spc="-1" strike="noStrike">
                  <a:solidFill>
                    <a:srgbClr val="5f5f5f"/>
                  </a:solidFill>
                  <a:latin typeface="SIVECO Office"/>
                  <a:ea typeface="Times New Roman"/>
                </a:rPr>
                <a:t>ndeplineasc</a:t>
              </a:r>
              <a:r>
                <a:rPr b="1" i="1" lang="ro-RO" sz="2400" spc="-1" strike="noStrike">
                  <a:solidFill>
                    <a:srgbClr val="5f5f5f"/>
                  </a:solidFill>
                  <a:latin typeface="SIVECO Office"/>
                </a:rPr>
                <a:t>ă</a:t>
              </a:r>
              <a:r>
                <a:rPr b="1" i="1" lang="ro-RO" sz="2400" spc="-1" strike="noStrike">
                  <a:solidFill>
                    <a:srgbClr val="5f5f5f"/>
                  </a:solidFill>
                  <a:latin typeface="SIVECO Office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2000" spc="-1" strike="noStrike">
                  <a:solidFill>
                    <a:srgbClr val="5f5f5f"/>
                  </a:solidFill>
                  <a:latin typeface="SIVECO Office"/>
                  <a:ea typeface="Times New Roman"/>
                </a:rPr>
                <a:t>Aristotel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pic>
        <p:nvPicPr>
          <p:cNvPr id="202" name="Picture 3" descr="C:\Documents and Settings\raduj\My Documents\new\e-learning.jpg"/>
          <p:cNvPicPr/>
          <p:nvPr/>
        </p:nvPicPr>
        <p:blipFill>
          <a:blip r:embed="rId2"/>
          <a:stretch/>
        </p:blipFill>
        <p:spPr>
          <a:xfrm>
            <a:off x="7238880" y="762120"/>
            <a:ext cx="1805040" cy="2033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3" name=""/>
          <p:cNvSpPr/>
          <p:nvPr/>
        </p:nvSpPr>
        <p:spPr>
          <a:xfrm>
            <a:off x="5715000" y="3048120"/>
            <a:ext cx="3200400" cy="3352680"/>
          </a:xfrm>
          <a:custGeom>
            <a:avLst/>
            <a:gdLst>
              <a:gd name="textAreaLeft" fmla="*/ 521280 w 3200400"/>
              <a:gd name="textAreaRight" fmla="*/ 2772000 w 3200400"/>
              <a:gd name="textAreaTop" fmla="*/ 2724120 h 3352680"/>
              <a:gd name="textAreaBottom" fmla="*/ 290376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20443"/>
                </a:moveTo>
                <a:lnTo>
                  <a:pt x="17550" y="20443"/>
                </a:lnTo>
                <a:lnTo>
                  <a:pt x="17550" y="3518"/>
                </a:lnTo>
                <a:lnTo>
                  <a:pt x="14657" y="3518"/>
                </a:lnTo>
                <a:lnTo>
                  <a:pt x="18129" y="0"/>
                </a:lnTo>
                <a:lnTo>
                  <a:pt x="21600" y="3518"/>
                </a:lnTo>
                <a:lnTo>
                  <a:pt x="18707" y="3518"/>
                </a:lnTo>
                <a:lnTo>
                  <a:pt x="187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cc00"/>
                </a:solidFill>
                <a:latin typeface="Bookman Old Style"/>
              </a:rPr>
              <a:t>Etapele principale ale P.S.E.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 u="sng">
                <a:solidFill>
                  <a:srgbClr val="333300"/>
                </a:solidFill>
                <a:uFillTx/>
                <a:latin typeface="Arial"/>
                <a:hlinkClick r:id="rId1" action="ppaction://hlinksldjump"/>
              </a:rPr>
              <a:t>Proiectarea pedagogică </a:t>
            </a:r>
            <a:r>
              <a:rPr b="1" lang="ro-RO" sz="3600" spc="-1" strike="noStrike">
                <a:solidFill>
                  <a:srgbClr val="003300"/>
                </a:solidFill>
                <a:latin typeface="Arial"/>
              </a:rPr>
              <a:t>(design educaţional)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3300"/>
                </a:solidFill>
                <a:latin typeface="Arial"/>
              </a:rPr>
              <a:t>Definirea strategiei educaţionale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3300"/>
                </a:solidFill>
                <a:latin typeface="Arial"/>
              </a:rPr>
              <a:t>Realizarea informatică/         grafică/ interfaţa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44792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2320" y="34290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6-Point Star 3"/>
          <p:cNvSpPr/>
          <p:nvPr/>
        </p:nvSpPr>
        <p:spPr>
          <a:xfrm rot="871800">
            <a:off x="5263920" y="3568320"/>
            <a:ext cx="3879720" cy="3289320"/>
          </a:xfrm>
          <a:prstGeom prst="pie">
            <a:avLst/>
          </a:prstGeom>
          <a:solidFill>
            <a:srgbClr val="cccc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3300"/>
                </a:solidFill>
                <a:latin typeface="Arial"/>
              </a:rPr>
              <a:t>Alegeţi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3300"/>
                </a:solidFill>
                <a:latin typeface="Georgia"/>
                <a:ea typeface="Arial"/>
              </a:rPr>
              <a:t>din bogata arie a tehnologiilor care ar putea deveni suportul tehnic al unui soft educaţional,  pe cel corespunzător scopului urmărit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cc00"/>
                </a:solidFill>
                <a:latin typeface="Bookman Old Style"/>
              </a:rPr>
              <a:t>Recomandări general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3300"/>
                </a:solidFill>
                <a:latin typeface="Arial"/>
              </a:rPr>
              <a:t>vizează elementele din: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aria pedagogiei,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aria disciplinară,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aria comunicaţională,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evaluarea,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feedback-ul,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aria funcţională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4038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Este util un soft educa</a:t>
            </a: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ţional pentru această temă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? De ce?</a:t>
            </a: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e elemente ale temei ar fi mai u</a:t>
            </a: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şor de învăţat cu ajutorul softului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Ce aduc nou în abordarea temei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6-Point Star 3"/>
          <p:cNvSpPr/>
          <p:nvPr/>
        </p:nvSpPr>
        <p:spPr>
          <a:xfrm rot="21337200">
            <a:off x="5816160" y="4129200"/>
            <a:ext cx="3327480" cy="2728800"/>
          </a:xfrm>
          <a:prstGeom prst="pie">
            <a:avLst/>
          </a:prstGeom>
          <a:solidFill>
            <a:srgbClr val="cccc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Softul educaţional nu este şi nu înlocuieşte manualul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3300"/>
                </a:solidFill>
                <a:latin typeface="Arial"/>
              </a:rPr>
              <a:t>Alegerea temei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cc00"/>
                </a:solidFill>
                <a:latin typeface="Bookman Old Style"/>
              </a:rPr>
              <a:t>1. </a:t>
            </a:r>
            <a:r>
              <a:rPr b="1" lang="ro-RO" sz="4400" spc="-1" strike="noStrike">
                <a:solidFill>
                  <a:srgbClr val="00cc00"/>
                </a:solidFill>
                <a:latin typeface="Bookman Old Style"/>
              </a:rPr>
              <a:t>ARIA PEDAGOGICĂ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696960" cy="871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696960" cy="871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04920" y="5257800"/>
            <a:ext cx="696960" cy="871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cc00"/>
                </a:solidFill>
                <a:latin typeface="Bookman Old Style"/>
              </a:rPr>
              <a:t>1. </a:t>
            </a:r>
            <a:r>
              <a:rPr b="1" lang="ro-RO" sz="4400" spc="-1" strike="noStrike">
                <a:solidFill>
                  <a:srgbClr val="00cc00"/>
                </a:solidFill>
                <a:latin typeface="Bookman Old Style"/>
              </a:rPr>
              <a:t>ARIA PEDAGOGICĂ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00"/>
                </a:solidFill>
                <a:latin typeface="Arial"/>
              </a:rPr>
              <a:t>Primul pas ar trebui să-l constituie o verificare a cunoasterii grupului-ţintă. </a:t>
            </a:r>
            <a:r>
              <a:rPr b="0" i="1" lang="ro-RO" sz="2400" spc="-1" strike="noStrike">
                <a:solidFill>
                  <a:srgbClr val="000099"/>
                </a:solidFill>
                <a:latin typeface="Arial"/>
              </a:rPr>
              <a:t>Puteţi enumera trei caracteristici ale populaţiei de elevi cărora le este adresat softul dv.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00"/>
                </a:solidFill>
                <a:latin typeface="Arial"/>
              </a:rPr>
              <a:t>Utilizarea computerului nu mai poate reprezenta în sine o motivaţie pentru elev. </a:t>
            </a:r>
            <a:r>
              <a:rPr b="0" i="1" lang="ro-RO" sz="2400" spc="-1" strike="noStrike">
                <a:solidFill>
                  <a:srgbClr val="000099"/>
                </a:solidFill>
                <a:latin typeface="Arial"/>
              </a:rPr>
              <a:t>Ce tehnici motivante aţi gândit să folosiţi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00"/>
                </a:solidFill>
                <a:latin typeface="Arial"/>
              </a:rPr>
              <a:t>Interacţiunea* îi oferă elevului oportunităţi pentru a reacţiona la un conţinut disciplinar. </a:t>
            </a:r>
            <a:r>
              <a:rPr b="0" i="1" lang="ro-RO" sz="2400" spc="-1" strike="noStrike">
                <a:solidFill>
                  <a:srgbClr val="000099"/>
                </a:solidFill>
                <a:latin typeface="Arial"/>
              </a:rPr>
              <a:t>Cum gândiţi să variaţi interacţiunea şi să asiguraţi frecvenţa ei? O puteţi realiza corelată/ dependentă de obiectiv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cc00"/>
                </a:solidFill>
                <a:latin typeface="Bookman Old Style"/>
              </a:rPr>
              <a:t>1. </a:t>
            </a:r>
            <a:r>
              <a:rPr b="1" lang="ro-RO" sz="4400" spc="-1" strike="noStrike">
                <a:solidFill>
                  <a:srgbClr val="00cc00"/>
                </a:solidFill>
                <a:latin typeface="Bookman Old Style"/>
              </a:rPr>
              <a:t>ARIA PEDAGOGICĂ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1828800"/>
            <a:ext cx="46483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3300"/>
                </a:solidFill>
                <a:latin typeface="Arial"/>
              </a:rPr>
              <a:t>Combinarea a două sau mai multe obiecte media (text, video, imagini, audio) pentru a da forma de exprimare a unui conţinut poate asigura înţelegerea mai bine decât un text.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" name="6-Point Star 3"/>
          <p:cNvSpPr/>
          <p:nvPr/>
        </p:nvSpPr>
        <p:spPr>
          <a:xfrm rot="587400">
            <a:off x="4800600" y="2361960"/>
            <a:ext cx="4343400" cy="3962160"/>
          </a:xfrm>
          <a:prstGeom prst="pie">
            <a:avLst/>
          </a:prstGeom>
          <a:solidFill>
            <a:srgbClr val="cccc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Nu utili</a:t>
            </a:r>
            <a:r>
              <a:rPr b="0" lang="en-US" sz="1800" spc="-1" strike="noStrike">
                <a:solidFill>
                  <a:srgbClr val="000099"/>
                </a:solidFill>
                <a:latin typeface="Georgia"/>
                <a:ea typeface="Arial"/>
              </a:rPr>
              <a:t>z</a:t>
            </a: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ăm elemente multimedia </a:t>
            </a:r>
            <a:r>
              <a:rPr b="0" lang="en-US" sz="1800" spc="-1" strike="noStrike">
                <a:solidFill>
                  <a:srgbClr val="000099"/>
                </a:solidFill>
                <a:latin typeface="Georgia"/>
                <a:ea typeface="Arial"/>
              </a:rPr>
              <a:t>“</a:t>
            </a: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gratuite</a:t>
            </a:r>
            <a:r>
              <a:rPr b="0" lang="en-US" sz="1800" spc="-1" strike="noStrike">
                <a:solidFill>
                  <a:srgbClr val="000099"/>
                </a:solidFill>
                <a:latin typeface="Georgia"/>
                <a:ea typeface="Arial"/>
              </a:rPr>
              <a:t>”! </a:t>
            </a: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Elementele multimedia trebuie să susţină şi să sporească înţelegerea temei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300" spc="-1" strike="noStrike">
                <a:solidFill>
                  <a:srgbClr val="00cc00"/>
                </a:solidFill>
                <a:latin typeface="Bookman Old Style"/>
              </a:rPr>
              <a:t>2. ARIA DISCIPLINARĂ:</a:t>
            </a:r>
            <a:endParaRPr b="0" lang="en-US" sz="43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" name="6-Point Star 3"/>
          <p:cNvSpPr/>
          <p:nvPr/>
        </p:nvSpPr>
        <p:spPr>
          <a:xfrm rot="1265400">
            <a:off x="4952520" y="2057040"/>
            <a:ext cx="4710240" cy="5110200"/>
          </a:xfrm>
          <a:prstGeom prst="pie">
            <a:avLst/>
          </a:prstGeom>
          <a:solidFill>
            <a:srgbClr val="cccc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3300"/>
                </a:solidFill>
                <a:latin typeface="Arial"/>
              </a:rPr>
              <a:t>Structuraţi informaţia disciplinară de o manieră logică*, dar când veţi opta pentru o anumită strategie </a:t>
            </a:r>
            <a:r>
              <a:rPr b="0" i="1" lang="ro-RO" sz="1800" spc="-1" strike="noStrike">
                <a:solidFill>
                  <a:srgbClr val="003300"/>
                </a:solidFill>
                <a:latin typeface="Arial"/>
              </a:rPr>
              <a:t>uneori </a:t>
            </a:r>
            <a:r>
              <a:rPr b="0" lang="ro-RO" sz="1800" spc="-1" strike="noStrike">
                <a:solidFill>
                  <a:srgbClr val="003300"/>
                </a:solidFill>
                <a:latin typeface="Arial"/>
              </a:rPr>
              <a:t>va trebui să constataţi că o structură “logică” a informaţiei disciplinare nu corespunde cu structura demersului pe care îl proiectaţi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5181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00"/>
                </a:solidFill>
                <a:latin typeface="Arial"/>
              </a:rPr>
              <a:t>Conţinutul trebuie să coreleze/ susţină/ acopere obiectivele curriculumului pentru elevii vizaţi. </a:t>
            </a:r>
            <a:r>
              <a:rPr b="0" i="1" lang="ro-RO" sz="2800" spc="-1" strike="noStrike">
                <a:solidFill>
                  <a:srgbClr val="000099"/>
                </a:solidFill>
                <a:latin typeface="Arial"/>
              </a:rPr>
              <a:t>Obiectivele softului pe care doriţi să-l proiectaţi sunt definite operaţional? Pe baza lor pot fi elaborate instrumente de evaluare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3. ARIA COMUNICAŢIONALĂ.  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	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FORMATUL:</a:t>
            </a:r>
            <a:endParaRPr b="0" lang="en-US" sz="3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00"/>
                </a:solidFill>
                <a:latin typeface="Arial"/>
              </a:rPr>
              <a:t>Limbajul folosit să corespundă nivelului de pregătire a elevului şi adecvat conţinutului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00"/>
                </a:solidFill>
                <a:latin typeface="Arial"/>
              </a:rPr>
              <a:t>Nu folosiţi termeni tehnici decât dacă sunt relevanţi pentru conţinutul disciplinar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00"/>
                </a:solidFill>
                <a:latin typeface="Arial"/>
              </a:rPr>
              <a:t>Utilizaţi o formatare standardizată: facilitează preluarea si înţelegerea informaţiei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44956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16:17:35Z</dcterms:created>
  <dc:creator>Adrian</dc:creator>
  <dc:description/>
  <dc:language>en-US</dc:language>
  <cp:lastModifiedBy>Adrian</cp:lastModifiedBy>
  <dcterms:modified xsi:type="dcterms:W3CDTF">2010-10-23T19:50:56Z</dcterms:modified>
  <cp:revision>54</cp:revision>
  <dc:subject/>
  <dc:title>Slide 1</dc:title>
</cp:coreProperties>
</file>